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5.png" ContentType="image/pn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B52-C3CF-481B-86CE-D1FEE42B5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8DD-024A-416B-91A6-ADC13556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BDE-7334-4902-872B-87F1672A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C5A-7B2D-4DC4-AA66-99E253FA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6EE-6C61-4D53-B5CE-C184337B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AC2-FA77-46ED-A11C-3F2122F93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E855-5BE4-4BA1-84B3-40582CBB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0941-163B-4A49-9DE0-078EDC84F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51B-3A5F-4F8A-9FCC-E1781648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7BC-4574-4AFF-9083-3E8A2304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37A-0589-47BC-8BEE-D59C840E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687-CB4A-4C31-A21B-EAA75A21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C0B7-CCCF-408D-A998-682AFDD645B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00000"/>
                </a:solidFill>
                <a:latin typeface="Arial"/>
              </a:rPr>
              <a:t>ANTI-INFLAMATORIOS NO ESTERO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76320" y="5157720"/>
            <a:ext cx="3313080" cy="6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Junio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2"/>
          <p:cNvGraphicFramePr/>
          <p:nvPr/>
        </p:nvGraphicFramePr>
        <p:xfrm>
          <a:off x="722160" y="333360"/>
          <a:ext cx="1328760" cy="13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333360"/>
                    <a:ext cx="1328760" cy="13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"/>
          <p:cNvSpPr/>
          <p:nvPr/>
        </p:nvSpPr>
        <p:spPr>
          <a:xfrm>
            <a:off x="2597400" y="620640"/>
            <a:ext cx="4603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FACULTAD DE MED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  <a:ea typeface="Calibri"/>
              </a:rPr>
              <a:t>CÁTEDRA DE REUMAT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395280" y="1989000"/>
            <a:ext cx="8353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1 CuadroTexto"/>
          <p:cNvSpPr/>
          <p:nvPr/>
        </p:nvSpPr>
        <p:spPr>
          <a:xfrm>
            <a:off x="2443680" y="4149720"/>
            <a:ext cx="39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Dra. Mercedes Navil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INTERACCIONES DE LOS AINES CON OTRAS DRO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996920"/>
          <a:ext cx="8229600" cy="4316400"/>
        </p:xfrm>
        <a:graphic>
          <a:graphicData uri="http://schemas.openxmlformats.org/drawingml/2006/table">
            <a:tbl>
              <a:tblPr/>
              <a:tblGrid>
                <a:gridCol w="4762440"/>
                <a:gridCol w="34671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oagulantes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ilbuta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oglucemiantes o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ilbuta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ito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ilbutaz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o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trex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gox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glucos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uréticos, 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β</a:t>
                      </a: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oqueantes, IECA, vasodila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metac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oagulan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S a bajas d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151"/>
          <p:cNvSpPr/>
          <p:nvPr/>
        </p:nvSpPr>
        <p:spPr>
          <a:xfrm>
            <a:off x="462600" y="1557360"/>
            <a:ext cx="556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Fármaco                                                     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AINES F2"/>
          <p:cNvPicPr/>
          <p:nvPr/>
        </p:nvPicPr>
        <p:blipFill>
          <a:blip r:embed="rId1"/>
          <a:stretch/>
        </p:blipFill>
        <p:spPr>
          <a:xfrm>
            <a:off x="623880" y="295200"/>
            <a:ext cx="7620120" cy="60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4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Efectos secundarios de los AINE</a:t>
            </a:r>
            <a:br>
              <a:rPr sz="2800"/>
            </a:b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1. Diges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menta X 4 en pacientes que reciben 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riesgo absoluto es 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666"/>
                </a:solidFill>
                <a:latin typeface="Arial"/>
              </a:rPr>
              <a:t>Factores de riesg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P de úlcera complic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so concomitante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ero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nticoagul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S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peps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ección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H. pil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694080" y="1989000"/>
            <a:ext cx="4231440" cy="1739880"/>
          </a:xfrm>
          <a:prstGeom prst="rect">
            <a:avLst/>
          </a:prstGeom>
          <a:noFill/>
          <a:ln w="15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Definición del grado de riesgo 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ajo: no factores de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rado: hasta 2 factores de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vado: más de 2 factores de ries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Tratamiento de los pacientes con riesgo GI y 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agonistas RH2: datos insu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BP: beneficio demost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tamiento de 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H. pylor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aislado: sin beneficio si hay úl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soprostol: problema dosis/efectos secund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204920" y="423720"/>
            <a:ext cx="64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Seguridad GI de los inhibidores de la CO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28400" y="1143000"/>
            <a:ext cx="796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mostrado para todos los inh COX2 para ulceras gastro-duode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 intest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 son más seguros si se asocian a 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guridad comparable a AINESt + IB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"/>
          <p:cNvPicPr/>
          <p:nvPr/>
        </p:nvPicPr>
        <p:blipFill>
          <a:blip r:embed="rId1"/>
          <a:stretch/>
        </p:blipFill>
        <p:spPr>
          <a:xfrm>
            <a:off x="1643040" y="2879640"/>
            <a:ext cx="51436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RIESGO CARDIO-VAS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48800" y="2211480"/>
            <a:ext cx="7462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mente ligado al riesgo de trombosis e I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suficiencia cardíaca secundaria  la retención hidro s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mostrado inicialmente para los inhCOX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o implica todos los AINES excp naprox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697800" cy="46069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1692000" y="476280"/>
            <a:ext cx="58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iesgo de óbito asociado a AINES en paciente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insuficiencia cardíaca cró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187280" y="1949400"/>
            <a:ext cx="7058160" cy="4216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613800" y="712800"/>
            <a:ext cx="80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Riesgo relativo de eventos cardio-vasculares en pacientes tratados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AINES cox2- específicos y tA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66"/>
                </a:solidFill>
                <a:latin typeface="Arial"/>
              </a:rPr>
              <a:t>(obtenido de 17 estudios paciente-control y estudio de6 cohor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0000"/>
                </a:solidFill>
                <a:latin typeface="Arial"/>
              </a:rPr>
              <a:t>RIESGO R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tención hidrosal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d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ecrosis pap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drome nefró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er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ien estudiado para los AI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udiar los riesgos para cada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1160" y="1344600"/>
            <a:ext cx="8325000" cy="34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Grupo de drogas de las más utiliz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Su venta triplicó entre 1975 y 2002 en Sue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En general son bien tole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1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Efectos adversos s/t gastro-intesti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Causa de 16.500 muertes anuales en EE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15,5 muertes por 100.000 habitantes en Esp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cc0000"/>
                </a:solidFill>
                <a:latin typeface="Arial"/>
              </a:rPr>
              <a:t>En la práct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217620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No usar AINES como único analgés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Evaluar riesgos y beneficios en cada pac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y con cada pa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Dosis plenas durante tiempo limi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468360" y="47628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Arial"/>
              </a:rPr>
              <a:t>RECOMENDACIONES PARA EL USO DE AINES EN PACIENTES CON RIESGO GASTRO-INTESTINAL Y CARDIO-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324000" y="2565360"/>
            <a:ext cx="8616600" cy="1951200"/>
            <a:chOff x="324000" y="2565360"/>
            <a:chExt cx="8616600" cy="1951200"/>
          </a:xfrm>
        </p:grpSpPr>
        <p:sp>
          <p:nvSpPr>
            <p:cNvPr id="151" name="Line 5"/>
            <p:cNvSpPr/>
            <p:nvPr/>
          </p:nvSpPr>
          <p:spPr>
            <a:xfrm>
              <a:off x="2916360" y="2932200"/>
              <a:ext cx="59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6"/>
            <p:cNvSpPr/>
            <p:nvPr/>
          </p:nvSpPr>
          <p:spPr>
            <a:xfrm>
              <a:off x="4169520" y="2565360"/>
              <a:ext cx="28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iesgo gastro-intesti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7"/>
            <p:cNvSpPr/>
            <p:nvPr/>
          </p:nvSpPr>
          <p:spPr>
            <a:xfrm>
              <a:off x="590400" y="256536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iesgo C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8"/>
            <p:cNvSpPr/>
            <p:nvPr/>
          </p:nvSpPr>
          <p:spPr>
            <a:xfrm>
              <a:off x="2922120" y="2932200"/>
              <a:ext cx="516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ajo                         Mediano                                  Al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9"/>
            <p:cNvSpPr/>
            <p:nvPr/>
          </p:nvSpPr>
          <p:spPr>
            <a:xfrm>
              <a:off x="324000" y="3292560"/>
              <a:ext cx="856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0"/>
            <p:cNvSpPr/>
            <p:nvPr/>
          </p:nvSpPr>
          <p:spPr>
            <a:xfrm>
              <a:off x="365760" y="3456000"/>
              <a:ext cx="85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Bajo                              AINES           AINESt + IBP o inhCOX2         COX2 inh+I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1"/>
            <p:cNvSpPr/>
            <p:nvPr/>
          </p:nvSpPr>
          <p:spPr>
            <a:xfrm>
              <a:off x="437760" y="3959280"/>
              <a:ext cx="84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to                         AINESt + IBP     AINESt + IBP o inhCOX2          todo AINE c/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324000" y="4516560"/>
              <a:ext cx="849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AINESF5"/>
          <p:cNvPicPr/>
          <p:nvPr/>
        </p:nvPicPr>
        <p:blipFill>
          <a:blip r:embed="rId1"/>
          <a:stretch/>
        </p:blipFill>
        <p:spPr>
          <a:xfrm>
            <a:off x="1440000" y="1413000"/>
            <a:ext cx="6156360" cy="4948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711440" y="471600"/>
            <a:ext cx="53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INHIBICIÓN DEL EFECTO DE LA ASPI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453960" y="336600"/>
            <a:ext cx="8294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468360" y="47628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Arial"/>
              </a:rPr>
              <a:t>RECOMENDACIONES PARA EL USO DE AINES EN PACIENTES CON RIESGO GASTRO-INTESTINAL Y CARDIO-VAS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3"/>
          <p:cNvGrpSpPr/>
          <p:nvPr/>
        </p:nvGrpSpPr>
        <p:grpSpPr>
          <a:xfrm>
            <a:off x="324000" y="2565360"/>
            <a:ext cx="8616600" cy="1951200"/>
            <a:chOff x="324000" y="2565360"/>
            <a:chExt cx="8616600" cy="1951200"/>
          </a:xfrm>
        </p:grpSpPr>
        <p:sp>
          <p:nvSpPr>
            <p:cNvPr id="164" name="Line 5"/>
            <p:cNvSpPr/>
            <p:nvPr/>
          </p:nvSpPr>
          <p:spPr>
            <a:xfrm>
              <a:off x="2916360" y="2932200"/>
              <a:ext cx="5976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6"/>
            <p:cNvSpPr/>
            <p:nvPr/>
          </p:nvSpPr>
          <p:spPr>
            <a:xfrm>
              <a:off x="4169520" y="2565360"/>
              <a:ext cx="284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iesgo gastro-intestin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7"/>
            <p:cNvSpPr/>
            <p:nvPr/>
          </p:nvSpPr>
          <p:spPr>
            <a:xfrm>
              <a:off x="590400" y="256536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Riesgo C/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8"/>
            <p:cNvSpPr/>
            <p:nvPr/>
          </p:nvSpPr>
          <p:spPr>
            <a:xfrm>
              <a:off x="2922120" y="2932200"/>
              <a:ext cx="516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Bajo                         Mediano                                  Al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>
              <a:off x="324000" y="3292560"/>
              <a:ext cx="856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0"/>
            <p:cNvSpPr/>
            <p:nvPr/>
          </p:nvSpPr>
          <p:spPr>
            <a:xfrm>
              <a:off x="365760" y="3456000"/>
              <a:ext cx="857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Bajo                              AINES           AINESt + IBP o inhCOX2         COX2 inh+I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1"/>
            <p:cNvSpPr/>
            <p:nvPr/>
          </p:nvSpPr>
          <p:spPr>
            <a:xfrm>
              <a:off x="437760" y="3959280"/>
              <a:ext cx="84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to                         AINESt + IBP     AINESt + IBP o inhCOX2          todo AINE c/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324000" y="4516560"/>
              <a:ext cx="849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8"/>
          <p:cNvSpPr/>
          <p:nvPr/>
        </p:nvSpPr>
        <p:spPr>
          <a:xfrm>
            <a:off x="374760" y="549360"/>
            <a:ext cx="4125960" cy="59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C de 82 años, vive solo. AP de HTA, diabetes II, depresión espondilosis lumbar, IR moderada, reflujo gastro-esofágico, e hiperplasia prostática benigna. Está medicado con 2 anti- hipertensivos, 2 hipoglucemiantes orales, 1 ISRS, 1 IBP, AINES, AAS. CC tiene una vida medianamente activa: arregla el jardín, camina por el barrio y visita a sus hijos y nietos. Su mayor queja estaba referida a los dolores lumbares que limitaban la actividad que deseaba hacer. Luego de un IAM de pequeña entidad complicado con una IC leve, vuelve a su domicilio, donde es tratado por el médico de familia. Ahora, recibe además, un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 bloqueante, 1 diurético y anticoagulante. Se suspendieron los AINES y se indicó paracetamol y codeína a demanda. En una visita su médico lo encontró exasperado: el paracetamol no calmaba sus dolores, la codeína le provocaba constipación, y una noche al levantarse para orinar, se cayó por los mareos. Al terminar las quejas agregó; la artrosis me está matando mas que el infar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24"/>
          <p:cNvGrpSpPr/>
          <p:nvPr/>
        </p:nvGrpSpPr>
        <p:grpSpPr>
          <a:xfrm>
            <a:off x="4716360" y="2133720"/>
            <a:ext cx="4176720" cy="2374920"/>
            <a:chOff x="4716360" y="2133720"/>
            <a:chExt cx="4176720" cy="2374920"/>
          </a:xfrm>
        </p:grpSpPr>
        <p:grpSp>
          <p:nvGrpSpPr>
            <p:cNvPr id="51" name="Group 16"/>
            <p:cNvGrpSpPr/>
            <p:nvPr/>
          </p:nvGrpSpPr>
          <p:grpSpPr>
            <a:xfrm>
              <a:off x="4802040" y="2421000"/>
              <a:ext cx="4091040" cy="2006640"/>
              <a:chOff x="4802040" y="2421000"/>
              <a:chExt cx="4091040" cy="2006640"/>
            </a:xfrm>
          </p:grpSpPr>
          <p:pic>
            <p:nvPicPr>
              <p:cNvPr id="52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5430600" y="2546640"/>
                <a:ext cx="3462480" cy="139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Rectangle 5"/>
              <p:cNvSpPr/>
              <p:nvPr/>
            </p:nvSpPr>
            <p:spPr>
              <a:xfrm>
                <a:off x="5911920" y="4061160"/>
                <a:ext cx="277632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Text Box 7"/>
              <p:cNvSpPr/>
              <p:nvPr/>
            </p:nvSpPr>
            <p:spPr>
              <a:xfrm>
                <a:off x="5867280" y="3980160"/>
                <a:ext cx="795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laceb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8"/>
              <p:cNvSpPr/>
              <p:nvPr/>
            </p:nvSpPr>
            <p:spPr>
              <a:xfrm>
                <a:off x="6732360" y="4005360"/>
                <a:ext cx="903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Celecoxi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9"/>
              <p:cNvSpPr/>
              <p:nvPr/>
            </p:nvSpPr>
            <p:spPr>
              <a:xfrm>
                <a:off x="7669440" y="4053240"/>
                <a:ext cx="95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Diclofena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10"/>
              <p:cNvSpPr/>
              <p:nvPr/>
            </p:nvSpPr>
            <p:spPr>
              <a:xfrm rot="16200000">
                <a:off x="4378320" y="2863800"/>
                <a:ext cx="112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% de mejorí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 Box 12"/>
              <p:cNvSpPr/>
              <p:nvPr/>
            </p:nvSpPr>
            <p:spPr>
              <a:xfrm>
                <a:off x="5077080" y="2421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 Box 13"/>
              <p:cNvSpPr/>
              <p:nvPr/>
            </p:nvSpPr>
            <p:spPr>
              <a:xfrm>
                <a:off x="5077080" y="270864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Text Box 14"/>
              <p:cNvSpPr/>
              <p:nvPr/>
            </p:nvSpPr>
            <p:spPr>
              <a:xfrm>
                <a:off x="5085000" y="306900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15"/>
              <p:cNvSpPr/>
              <p:nvPr/>
            </p:nvSpPr>
            <p:spPr>
              <a:xfrm>
                <a:off x="5085000" y="3429360"/>
                <a:ext cx="35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0"/>
            <p:cNvSpPr/>
            <p:nvPr/>
          </p:nvSpPr>
          <p:spPr>
            <a:xfrm>
              <a:off x="4716360" y="2133720"/>
              <a:ext cx="40323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1"/>
            <p:cNvSpPr/>
            <p:nvPr/>
          </p:nvSpPr>
          <p:spPr>
            <a:xfrm>
              <a:off x="4859280" y="4508640"/>
              <a:ext cx="40323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2"/>
          <p:cNvSpPr/>
          <p:nvPr/>
        </p:nvSpPr>
        <p:spPr>
          <a:xfrm>
            <a:off x="396720" y="404640"/>
            <a:ext cx="410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3"/>
          <p:cNvSpPr/>
          <p:nvPr/>
        </p:nvSpPr>
        <p:spPr>
          <a:xfrm>
            <a:off x="324000" y="6597720"/>
            <a:ext cx="41036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309480" y="333360"/>
            <a:ext cx="2286720" cy="307080"/>
          </a:xfrm>
          <a:prstGeom prst="rect">
            <a:avLst/>
          </a:prstGeom>
          <a:solidFill>
            <a:srgbClr val="33c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ACIDOS CARBOXIL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689760" y="1206360"/>
            <a:ext cx="1465560" cy="2764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idos salicí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1069560" y="2682720"/>
            <a:ext cx="502200" cy="2764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61400" y="1197000"/>
            <a:ext cx="134496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idos acé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827720" y="1765440"/>
            <a:ext cx="153108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ido Fenilacé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080080" y="2673360"/>
            <a:ext cx="953280" cy="276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iclofen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3523680" y="1684440"/>
            <a:ext cx="1209600" cy="4590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 carbo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eterocíc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3597840" y="2455920"/>
            <a:ext cx="1165320" cy="641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todol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dometac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lind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923360" y="1208160"/>
            <a:ext cx="1605600" cy="276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idos propión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5304240" y="2330280"/>
            <a:ext cx="108612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Ketoprof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buprof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prox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enprof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1322280" y="1531800"/>
            <a:ext cx="0" cy="1084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756120" y="1189080"/>
            <a:ext cx="1488240" cy="276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idos fe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925320" y="2568600"/>
            <a:ext cx="1259640" cy="2764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 mefelá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4417920" y="674640"/>
            <a:ext cx="0" cy="23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1322280" y="905040"/>
            <a:ext cx="606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1322280" y="905040"/>
            <a:ext cx="0" cy="22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7386480" y="905040"/>
            <a:ext cx="0" cy="22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5616720" y="905040"/>
            <a:ext cx="0" cy="22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3216240" y="905040"/>
            <a:ext cx="0" cy="226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>
            <a:off x="7386480" y="1531800"/>
            <a:ext cx="0" cy="97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5680080" y="1530360"/>
            <a:ext cx="0" cy="74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4100400" y="211464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>
            <a:off x="2459160" y="2046240"/>
            <a:ext cx="0" cy="569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8"/>
          <p:cNvSpPr/>
          <p:nvPr/>
        </p:nvSpPr>
        <p:spPr>
          <a:xfrm>
            <a:off x="3281400" y="1474920"/>
            <a:ext cx="0" cy="55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9"/>
          <p:cNvSpPr/>
          <p:nvPr/>
        </p:nvSpPr>
        <p:spPr>
          <a:xfrm>
            <a:off x="2459160" y="1531800"/>
            <a:ext cx="1579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0"/>
          <p:cNvSpPr/>
          <p:nvPr/>
        </p:nvSpPr>
        <p:spPr>
          <a:xfrm>
            <a:off x="2459160" y="153180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2"/>
          <p:cNvSpPr/>
          <p:nvPr/>
        </p:nvSpPr>
        <p:spPr>
          <a:xfrm>
            <a:off x="4038480" y="1531800"/>
            <a:ext cx="0" cy="114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5"/>
          <p:cNvSpPr/>
          <p:nvPr/>
        </p:nvSpPr>
        <p:spPr>
          <a:xfrm>
            <a:off x="1333440" y="3881520"/>
            <a:ext cx="1613160" cy="2764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IDOS ENOL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6"/>
          <p:cNvSpPr/>
          <p:nvPr/>
        </p:nvSpPr>
        <p:spPr>
          <a:xfrm>
            <a:off x="827640" y="4662360"/>
            <a:ext cx="1038600" cy="276480"/>
          </a:xfrm>
          <a:prstGeom prst="rect">
            <a:avLst/>
          </a:prstGeom>
          <a:solidFill>
            <a:srgbClr val="ffbc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irazol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7"/>
          <p:cNvSpPr/>
          <p:nvPr/>
        </p:nvSpPr>
        <p:spPr>
          <a:xfrm>
            <a:off x="758160" y="5500800"/>
            <a:ext cx="1206360" cy="276480"/>
          </a:xfrm>
          <a:prstGeom prst="rect">
            <a:avLst/>
          </a:prstGeom>
          <a:solidFill>
            <a:srgbClr val="ffbc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enilbutaz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8"/>
          <p:cNvSpPr/>
          <p:nvPr/>
        </p:nvSpPr>
        <p:spPr>
          <a:xfrm>
            <a:off x="2555280" y="4662360"/>
            <a:ext cx="819360" cy="276480"/>
          </a:xfrm>
          <a:prstGeom prst="rect">
            <a:avLst/>
          </a:prstGeom>
          <a:solidFill>
            <a:srgbClr val="f3c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xic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2484360" y="5526000"/>
            <a:ext cx="979200" cy="641520"/>
          </a:xfrm>
          <a:prstGeom prst="rect">
            <a:avLst/>
          </a:prstGeom>
          <a:solidFill>
            <a:srgbClr val="f3cc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iroxic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enoxic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loxic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4428720" y="3881520"/>
            <a:ext cx="1197360" cy="2764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O ACID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1"/>
          <p:cNvSpPr/>
          <p:nvPr/>
        </p:nvSpPr>
        <p:spPr>
          <a:xfrm>
            <a:off x="4449240" y="4818240"/>
            <a:ext cx="11041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bumet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imesul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2"/>
          <p:cNvSpPr/>
          <p:nvPr/>
        </p:nvSpPr>
        <p:spPr>
          <a:xfrm>
            <a:off x="6517080" y="3809880"/>
            <a:ext cx="1649880" cy="276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X 2 SELEC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6872400" y="4746600"/>
            <a:ext cx="988560" cy="824040"/>
          </a:xfrm>
          <a:prstGeom prst="rect">
            <a:avLst/>
          </a:prstGeom>
          <a:solidFill>
            <a:srgbClr val="ecb2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elecox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ofecox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Valdecox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toricox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4"/>
          <p:cNvSpPr/>
          <p:nvPr/>
        </p:nvSpPr>
        <p:spPr>
          <a:xfrm>
            <a:off x="2124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5"/>
          <p:cNvSpPr/>
          <p:nvPr/>
        </p:nvSpPr>
        <p:spPr>
          <a:xfrm>
            <a:off x="1403280" y="4437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1403280" y="443700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8"/>
          <p:cNvSpPr/>
          <p:nvPr/>
        </p:nvSpPr>
        <p:spPr>
          <a:xfrm>
            <a:off x="2771640" y="443700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9"/>
          <p:cNvSpPr/>
          <p:nvPr/>
        </p:nvSpPr>
        <p:spPr>
          <a:xfrm>
            <a:off x="1332000" y="501336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0"/>
          <p:cNvSpPr/>
          <p:nvPr/>
        </p:nvSpPr>
        <p:spPr>
          <a:xfrm>
            <a:off x="2987640" y="501336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1"/>
          <p:cNvSpPr/>
          <p:nvPr/>
        </p:nvSpPr>
        <p:spPr>
          <a:xfrm>
            <a:off x="5024520" y="422100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2"/>
          <p:cNvSpPr/>
          <p:nvPr/>
        </p:nvSpPr>
        <p:spPr>
          <a:xfrm>
            <a:off x="7375680" y="4149720"/>
            <a:ext cx="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AINES FF1"/>
          <p:cNvPicPr/>
          <p:nvPr/>
        </p:nvPicPr>
        <p:blipFill>
          <a:blip r:embed="rId1"/>
          <a:stretch/>
        </p:blipFill>
        <p:spPr>
          <a:xfrm>
            <a:off x="2268360" y="476280"/>
            <a:ext cx="3673800" cy="3887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250920" y="4653000"/>
            <a:ext cx="235260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66"/>
                </a:solidFill>
                <a:latin typeface="Arial"/>
              </a:rPr>
              <a:t>TXA</a:t>
            </a:r>
            <a:r>
              <a:rPr b="1" lang="es-ES_tradnl" sz="1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ctivación plaquet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soconstric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roliferación S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036600" y="4653000"/>
            <a:ext cx="2683080" cy="14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_tradnl" sz="1600" spc="-1" strike="noStrike">
                <a:solidFill>
                  <a:srgbClr val="006666"/>
                </a:solidFill>
                <a:latin typeface="Arial"/>
              </a:rPr>
              <a:t>PGE</a:t>
            </a:r>
            <a:r>
              <a:rPr b="1" lang="es-ES_tradnl" sz="1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r>
              <a:rPr b="1" lang="es-ES_tradnl" sz="1600" spc="-1" strike="noStrike">
                <a:solidFill>
                  <a:srgbClr val="006666"/>
                </a:solidFill>
                <a:latin typeface="Arial"/>
              </a:rPr>
              <a:t> – PGI</a:t>
            </a:r>
            <a:r>
              <a:rPr b="1" lang="es-ES_tradnl" sz="1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ermeabilidad vas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lujo vascular 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Hiperalge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e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090480" y="4653000"/>
            <a:ext cx="26377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66"/>
                </a:solidFill>
                <a:latin typeface="Arial"/>
              </a:rPr>
              <a:t>PGE</a:t>
            </a:r>
            <a:r>
              <a:rPr b="1" lang="es-ES_tradnl" sz="1600" spc="-1" strike="noStrike" baseline="-25000">
                <a:solidFill>
                  <a:srgbClr val="006666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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íntesis ácida Gas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31000" cy="45356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350440" y="6397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Mecanismo fisiopat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74680" y="1709640"/>
            <a:ext cx="8594640" cy="43117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2201760" y="549360"/>
            <a:ext cx="37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Arial"/>
              </a:rPr>
              <a:t>Mecanismo fisiopato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56880"/>
            <a:ext cx="4321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armacociné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1840" y="155736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uena absorción 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plasmático unidos a proteí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cumula en los sitios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tabolismo hepático </a:t>
            </a:r>
            <a:r>
              <a:rPr b="0" lang="es-ES_trad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etabolitos ine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creción por filtrado glomerular o secreción tub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duración de los efectos anti-inflamatorios depende de la vida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31840" y="405612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</a:rPr>
              <a:t>INFLUENCI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274560" y="4508640"/>
            <a:ext cx="27604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uficiencia hep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suficiencia re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ipoprotein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68360" y="2205000"/>
          <a:ext cx="8229600" cy="3565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a media (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a media (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pir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buf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lofen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loxi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odol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bumet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uprof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rox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metac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nilbutaz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toprofe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roxi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ind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oxic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51"/>
                        </a:spcBef>
                        <a:spcAft>
                          <a:spcPts val="32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244"/>
          <p:cNvSpPr/>
          <p:nvPr/>
        </p:nvSpPr>
        <p:spPr>
          <a:xfrm>
            <a:off x="1335240" y="54936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0000"/>
                </a:solidFill>
                <a:latin typeface="Arial"/>
              </a:rPr>
              <a:t>VIDA MEDIA DE LOS AINES MÁS US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45"/>
          <p:cNvSpPr/>
          <p:nvPr/>
        </p:nvSpPr>
        <p:spPr>
          <a:xfrm>
            <a:off x="536400" y="1700280"/>
            <a:ext cx="24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Vida media </a:t>
            </a:r>
            <a:r>
              <a:rPr b="1" lang="es-ES_tradnl" sz="18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 6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6"/>
          <p:cNvSpPr/>
          <p:nvPr/>
        </p:nvSpPr>
        <p:spPr>
          <a:xfrm>
            <a:off x="4640040" y="1700280"/>
            <a:ext cx="24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Vida media </a:t>
            </a:r>
            <a:r>
              <a:rPr b="1" lang="es-ES_tradnl" sz="1800" spc="-1" strike="noStrike">
                <a:solidFill>
                  <a:srgbClr val="cc0000"/>
                </a:solidFill>
                <a:latin typeface="Symbol"/>
                <a:ea typeface="Symbol"/>
              </a:rPr>
              <a:t></a:t>
            </a:r>
            <a:r>
              <a:rPr b="1" lang="es-ES_tradnl" sz="1800" spc="-1" strike="noStrike">
                <a:solidFill>
                  <a:srgbClr val="cc0000"/>
                </a:solidFill>
                <a:latin typeface="Arial"/>
              </a:rPr>
              <a:t> 6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14:45Z</dcterms:created>
  <dc:creator>Mercedes</dc:creator>
  <dc:description/>
  <dc:language>en-US</dc:language>
  <cp:lastModifiedBy>User</cp:lastModifiedBy>
  <dcterms:modified xsi:type="dcterms:W3CDTF">2013-06-29T01:44:02Z</dcterms:modified>
  <cp:revision>15</cp:revision>
  <dc:subject/>
  <dc:title>Diapositiva 1</dc:title>
</cp:coreProperties>
</file>