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move the slide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D771-839A-47C7-9686-0EF97F0EE41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6325-079F-45E0-A6CC-7255DB0ED731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F67C-622D-4E43-B442-D147582F581C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8C5-06FC-4EDB-A67B-562BFA9D8087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76E-0101-4EE2-B074-F8840C08ABB7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4532-D123-41D3-8C63-12FE72C2BD7E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60095-7D6D-4F62-87F8-4AA7ECCF2A15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6704A-DF5A-4E20-AA8E-22127E7ABDF0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878C-774A-494B-A534-0266D863D8C6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226C-C873-42A5-AAE0-7C7B90592B7F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6A4D-9E08-4BC8-A4D4-975EDB6EC3EE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233D-E90A-4295-B3DA-5B0E4B55983B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737C-4A45-4AE7-B8BC-F69F44573AFD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24BD-6371-4F97-8B62-6608BD83CAA7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1A55-A459-474E-BC48-EB3FE7742C15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AA0C-1F79-439E-9803-309799CF1765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4BF9-E63C-480C-B0F2-11DAFD299952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E1F6-4C8F-4052-80F3-A3B2E25DCA6A}" type="slidenum">
              <a:rPr b="0" lang="es-E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18D4-8F10-45C2-AF45-A60C96EDB95D}" type="slidenum">
              <a:rPr b="0" lang="es-E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6FD-170A-47CB-94BE-FBF0BB57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1BF-088E-4727-9898-FE3BDFAB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6D64-56E1-4617-BD71-CC00CEE1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163-D9C1-4E83-970D-6EE6355E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5267-EA67-4773-93EC-A1B3B315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13AD-B696-4362-A835-BCC6107A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5FF0-8280-439C-B95D-1753A201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8E52-85B9-4149-97FC-3205F95D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7D53-B9E9-45A6-8C64-CDE5D7B5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0134D-1549-448C-94BF-D2C66472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C9F2-EB9E-465C-B497-EE83FC5D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274-BA33-4C0B-AE54-8031A361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76A6-4230-4613-9D31-20D1DC4A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D8EF-D257-4549-949C-2B220D53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70D6-9DA6-468D-8562-D80A23DF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0CB72-1E86-4BB6-808D-FCA1429A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3C74-5058-4062-A068-4A0AF62E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E1C98-599B-4D80-8015-54EF2B17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3396-8E9D-42DD-BA91-2A6B6D81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61DD7-C80C-4378-962B-CA470893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0AF3-A661-4E91-ADFD-3DE8C7AA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CDF4-97BA-476D-8412-8AD213DB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BA18-395C-477F-ACB4-59EDE813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FE345-1571-4D6C-84E9-FB6FFD10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EF61-CD2C-4D05-9A9C-5B5AF970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AC9EB-34A3-43AB-A43E-23857CA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E9C1F-C139-4D21-9A4B-D549D6C2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F068-ADD3-4242-965A-330F252D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C0832-7D8E-49C4-98D6-BBD05D5F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80E2-38AA-480C-A2F6-B7288BCC1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F8D28-E3FE-4DDD-94A9-24FFA4E5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95AB0-AA9D-4FD3-AA48-BFCDE5F3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BDF3-6501-459B-AB6C-58C7BAB8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584-F43D-4C33-9DBD-1802DF54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4A75-4464-4440-94DC-BC9F83F1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DE51D-4656-41D5-B1C8-D0E66D65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7E661-E6FC-4C75-A18C-DACEAC12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7C00D-B441-4159-BD7A-E9B3533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71E7-615D-48F3-ACFE-CE685061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A330-7B51-4705-A03B-7178DE3A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F5066-98E9-4C85-AE57-BB5B675C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9F9E8-A85F-49C6-AD7D-3BC12721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73A55-86CB-428E-9AD2-CE90CC6E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9D8D9-9604-496D-AFE9-CD3D8787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B51-EBC4-42C7-B5D6-F331030F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62598-2529-4A49-B157-32ABB510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B7276-7B34-4521-BD74-1CF2ECD8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ED84B-F80A-42DE-B0A3-231B66C8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B6979-F20F-4635-A69F-97BEE06C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70971-939E-49D8-912A-C6F4164E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F02DD-C0D6-4367-A233-890B06EF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97648-D266-48D9-AB82-B4BF1AC0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6ACF-9EE5-403D-A920-5669F75D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C8B9-5C51-492F-ACCE-BDCFD83A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24558-1D18-4468-8674-386A6AF6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37D-0DA7-4DAC-8253-B69540B0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BF23C-F1A2-46A4-8A9B-F6FF36FC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6BAF-1376-4E85-BAA5-64FB1AB3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8EB-244A-4FC4-9723-7B7EF508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5F4-6838-4EFA-BF6C-DCD9D34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F9BE-5D4A-4D03-BD4F-E5EFC382C0F3}" type="slidenum">
              <a:rPr b="0" lang="es-ES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BBDA-104B-4109-A0FB-EABBE2E48C73}" type="slidenum">
              <a:rPr b="0" lang="es-ES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d3641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d3641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E5C7-7733-4AE5-8B68-FF2BDAA86050}" type="slidenum">
              <a:rPr b="0" lang="es-ES" sz="1200" spc="-1" strike="noStrike">
                <a:solidFill>
                  <a:srgbClr val="1d3641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01CF-7C43-479F-B103-D643DE844DB9}" type="slidenum">
              <a:rPr b="0" lang="es-ES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fe6d0"/>
                </a:solidFill>
                <a:latin typeface="Tw Cen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fe6d0"/>
                </a:solidFill>
                <a:latin typeface="Tw Cen MT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7C6D-BC70-4EB0-903C-FED3A9035497}" type="slidenum">
              <a:rPr b="0" lang="es-ES" sz="1200" spc="-1" strike="noStrike">
                <a:solidFill>
                  <a:srgbClr val="dfe6d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3 CuadroTexto"/>
          <p:cNvSpPr/>
          <p:nvPr/>
        </p:nvSpPr>
        <p:spPr>
          <a:xfrm>
            <a:off x="104400" y="2421000"/>
            <a:ext cx="877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FARMACOS COADYUVANTES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N EL TRATAMIENTO DEL DOLOR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4 CuadroTexto"/>
          <p:cNvSpPr/>
          <p:nvPr/>
        </p:nvSpPr>
        <p:spPr>
          <a:xfrm>
            <a:off x="5239440" y="619596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ra. Cristina Vázquez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57200" y="1600200"/>
          <a:ext cx="8435880" cy="2835360"/>
        </p:xfrm>
        <a:graphic>
          <a:graphicData uri="http://schemas.openxmlformats.org/drawingml/2006/table">
            <a:tbl>
              <a:tblPr/>
              <a:tblGrid>
                <a:gridCol w="1306440"/>
                <a:gridCol w="1368360"/>
                <a:gridCol w="2087640"/>
                <a:gridCol w="3673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Fárma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osis de inic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Dosis de mantenimi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Efectos  advers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GB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-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-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dación, mareos, ataxia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auseas, edema, aumento de pes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P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-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dación, mareos, ataxia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auseas, edema, aumento de pes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5" descr="C85E072"/>
          <p:cNvPicPr/>
          <p:nvPr/>
        </p:nvPicPr>
        <p:blipFill>
          <a:blip r:embed="rId1"/>
          <a:srcRect l="9088" t="0" r="9056" b="2289"/>
          <a:stretch/>
        </p:blipFill>
        <p:spPr>
          <a:xfrm>
            <a:off x="1371600" y="981000"/>
            <a:ext cx="6481800" cy="526572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6"/>
          <p:cNvSpPr/>
          <p:nvPr/>
        </p:nvSpPr>
        <p:spPr>
          <a:xfrm>
            <a:off x="1143360" y="403200"/>
            <a:ext cx="69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NT de drogas en dolor neuropático periféric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TextBox 5"/>
          <p:cNvSpPr/>
          <p:nvPr/>
        </p:nvSpPr>
        <p:spPr>
          <a:xfrm>
            <a:off x="4946040" y="626760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nerup, NB et al Pain 2005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3" name=""/>
          <p:cNvGraphicFramePr/>
          <p:nvPr/>
        </p:nvGraphicFramePr>
        <p:xfrm>
          <a:off x="2340000" y="476280"/>
          <a:ext cx="4392720" cy="5973840"/>
        </p:xfrm>
        <a:graphic>
          <a:graphicData uri="http://schemas.openxmlformats.org/drawingml/2006/table">
            <a:tbl>
              <a:tblPr/>
              <a:tblGrid>
                <a:gridCol w="2590920"/>
                <a:gridCol w="1801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ármac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s-UY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NT PN Doloros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T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2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CBZ - OX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Topirama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4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GBP/P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3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Lamotrig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Oxicodo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Tramado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cido Lipo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Venlafax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Dulox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5,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Dextrometorfa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2,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Lidocaína lo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4,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UY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Capsaic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66aacd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Line 2"/>
          <p:cNvSpPr/>
          <p:nvPr/>
        </p:nvSpPr>
        <p:spPr>
          <a:xfrm>
            <a:off x="1143000" y="1268280"/>
            <a:ext cx="6477120" cy="0"/>
          </a:xfrm>
          <a:prstGeom prst="line">
            <a:avLst/>
          </a:prstGeom>
          <a:ln w="63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250920" y="1447920"/>
            <a:ext cx="76197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estésicos tópicos o local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docaína tópic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loqueo o infusión local con Lidocaín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saicin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894320" y="189000"/>
            <a:ext cx="51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loqueo de la sensibilizació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riféric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27" name="Picture 5" descr="TER PERI 2"/>
          <p:cNvPicPr/>
          <p:nvPr/>
        </p:nvPicPr>
        <p:blipFill>
          <a:blip r:embed="rId1"/>
          <a:stretch/>
        </p:blipFill>
        <p:spPr>
          <a:xfrm>
            <a:off x="4191120" y="2819520"/>
            <a:ext cx="4952880" cy="38098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6"/>
          <p:cNvSpPr/>
          <p:nvPr/>
        </p:nvSpPr>
        <p:spPr>
          <a:xfrm>
            <a:off x="-1440" y="3505320"/>
            <a:ext cx="4129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Bloqueo especifico de Na TTX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Antagonistas de Serotonin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   </a:t>
            </a: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Bradikinin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Antagonistas de NFG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2"/>
          <p:cNvSpPr/>
          <p:nvPr/>
        </p:nvSpPr>
        <p:spPr>
          <a:xfrm>
            <a:off x="1600200" y="1371600"/>
            <a:ext cx="6477120" cy="0"/>
          </a:xfrm>
          <a:prstGeom prst="line">
            <a:avLst/>
          </a:prstGeom>
          <a:ln w="63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1767960" y="533520"/>
            <a:ext cx="57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loqueo de descargas ectópica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800" y="1752480"/>
            <a:ext cx="406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queo de canales de N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iepiléptic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iarrítmic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doca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2" name="Picture 5" descr="slide_40"/>
          <p:cNvPicPr/>
          <p:nvPr/>
        </p:nvPicPr>
        <p:blipFill>
          <a:blip r:embed="rId1"/>
          <a:srcRect l="-2057" t="0" r="0" b="42896"/>
          <a:stretch/>
        </p:blipFill>
        <p:spPr>
          <a:xfrm>
            <a:off x="838080" y="3733920"/>
            <a:ext cx="7858080" cy="238284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6"/>
          <p:cNvSpPr/>
          <p:nvPr/>
        </p:nvSpPr>
        <p:spPr>
          <a:xfrm>
            <a:off x="4861080" y="17175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4343400" y="17524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Bloqueantes selectivos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Activadores de canales de K</a:t>
            </a:r>
            <a:r>
              <a:rPr b="1" lang="es-ES" sz="1800" spc="-1" strike="noStrike" baseline="30000">
                <a:solidFill>
                  <a:srgbClr val="ffcc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Line 2"/>
          <p:cNvSpPr/>
          <p:nvPr/>
        </p:nvSpPr>
        <p:spPr>
          <a:xfrm>
            <a:off x="1447920" y="1371600"/>
            <a:ext cx="6476760" cy="0"/>
          </a:xfrm>
          <a:prstGeom prst="line">
            <a:avLst/>
          </a:prstGeom>
          <a:ln w="63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Text Box 3"/>
          <p:cNvSpPr/>
          <p:nvPr/>
        </p:nvSpPr>
        <p:spPr>
          <a:xfrm>
            <a:off x="1680480" y="380880"/>
            <a:ext cx="58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odular la sensibilización central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305280" y="1676520"/>
            <a:ext cx="682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agonistas NMD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etamina,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xtrometorfan,</a:t>
            </a:r>
            <a:r>
              <a:rPr b="1" lang="es-UY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antadina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loqueantes de canal de Ca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+</a:t>
            </a:r>
            <a:r>
              <a:rPr b="1" lang="es-UY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agonistas del receptor NK1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dores de COX2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dores de PKC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hibidores de nN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38" name="Picture 5" descr="sensicent"/>
          <p:cNvPicPr/>
          <p:nvPr/>
        </p:nvPicPr>
        <p:blipFill>
          <a:blip r:embed="rId1"/>
          <a:stretch/>
        </p:blipFill>
        <p:spPr>
          <a:xfrm>
            <a:off x="4038480" y="3276720"/>
            <a:ext cx="5105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Line 2"/>
          <p:cNvSpPr/>
          <p:nvPr/>
        </p:nvSpPr>
        <p:spPr>
          <a:xfrm>
            <a:off x="1523880" y="1447920"/>
            <a:ext cx="6477120" cy="0"/>
          </a:xfrm>
          <a:prstGeom prst="line">
            <a:avLst/>
          </a:prstGeom>
          <a:ln w="63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457200" y="2209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ármacos que aumentan la trasmision serotoninérgico/noradrenérgic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453600" y="3048120"/>
            <a:ext cx="50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ármacos que aumentan la trasmis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ABAérgic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531000" y="3886200"/>
            <a:ext cx="40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ármacos agonistas opiáce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2284200" y="152280"/>
            <a:ext cx="496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Favorecer la modulación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nhibitori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4" name="Text Box 7"/>
          <p:cNvSpPr/>
          <p:nvPr/>
        </p:nvSpPr>
        <p:spPr>
          <a:xfrm>
            <a:off x="226080" y="5486400"/>
            <a:ext cx="659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Agonistas opiáceos </a:t>
            </a:r>
            <a:r>
              <a:rPr b="1" lang="es-E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,</a:t>
            </a:r>
            <a:r>
              <a:rPr b="1" lang="es-UY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 tizanidina</a:t>
            </a: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, baclofeno,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Times New Roman"/>
              </a:rPr>
              <a:t>antidepresivos, benzodiacepina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45" name="Picture 9" descr="cinhibitorioscopia"/>
          <p:cNvPicPr/>
          <p:nvPr/>
        </p:nvPicPr>
        <p:blipFill>
          <a:blip r:embed="rId1"/>
          <a:srcRect l="0" t="7896" r="0" b="5935"/>
          <a:stretch/>
        </p:blipFill>
        <p:spPr>
          <a:xfrm>
            <a:off x="6248520" y="167652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Oval 2"/>
          <p:cNvSpPr/>
          <p:nvPr/>
        </p:nvSpPr>
        <p:spPr>
          <a:xfrm>
            <a:off x="3276720" y="2565360"/>
            <a:ext cx="1150920" cy="719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1476360" y="2852640"/>
            <a:ext cx="2087640" cy="14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AutoShape 4"/>
          <p:cNvSpPr/>
          <p:nvPr/>
        </p:nvSpPr>
        <p:spPr>
          <a:xfrm rot="5400000">
            <a:off x="936000" y="2600280"/>
            <a:ext cx="719280" cy="649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9" name="AutoShape 5"/>
          <p:cNvSpPr/>
          <p:nvPr/>
        </p:nvSpPr>
        <p:spPr>
          <a:xfrm rot="1256400">
            <a:off x="4140000" y="2781360"/>
            <a:ext cx="1871640" cy="1152360"/>
          </a:xfrm>
          <a:custGeom>
            <a:avLst/>
            <a:gdLst>
              <a:gd name="textAreaLeft" fmla="*/ 0 w 1871640"/>
              <a:gd name="textAreaRight" fmla="*/ 1871640 w 1871640"/>
              <a:gd name="textAreaTop" fmla="*/ 0 h 1152360"/>
              <a:gd name="textAreaBottom" fmla="*/ 587880 h 1152360"/>
            </a:gdLst>
            <a:ahLst/>
            <a:rect l="textAreaLeft" t="textAreaTop" r="textAreaRight" b="textAreaBottom"/>
            <a:pathLst>
              <a:path w="21600" h="21600">
                <a:moveTo>
                  <a:pt x="1965" y="8607"/>
                </a:moveTo>
                <a:cubicBezTo>
                  <a:pt x="2972" y="4547"/>
                  <a:pt x="6617" y="1697"/>
                  <a:pt x="10800" y="1697"/>
                </a:cubicBezTo>
                <a:cubicBezTo>
                  <a:pt x="14982" y="1697"/>
                  <a:pt x="18627" y="4547"/>
                  <a:pt x="19634" y="8607"/>
                </a:cubicBezTo>
                <a:lnTo>
                  <a:pt x="21281" y="8198"/>
                </a:lnTo>
                <a:cubicBezTo>
                  <a:pt x="20086" y="3381"/>
                  <a:pt x="15762" y="0"/>
                  <a:pt x="10799" y="0"/>
                </a:cubicBezTo>
                <a:cubicBezTo>
                  <a:pt x="5837" y="0"/>
                  <a:pt x="1513" y="3381"/>
                  <a:pt x="318" y="8198"/>
                </a:cubicBezTo>
                <a:lnTo>
                  <a:pt x="1965" y="860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5508720" y="3284640"/>
            <a:ext cx="718920" cy="431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AutoShape 7"/>
          <p:cNvSpPr/>
          <p:nvPr/>
        </p:nvSpPr>
        <p:spPr>
          <a:xfrm>
            <a:off x="6443640" y="2421000"/>
            <a:ext cx="1800360" cy="2303280"/>
          </a:xfrm>
          <a:custGeom>
            <a:avLst/>
            <a:gdLst>
              <a:gd name="textAreaLeft" fmla="*/ 0 w 1800360"/>
              <a:gd name="textAreaRight" fmla="*/ 1492920 w 1800360"/>
              <a:gd name="textAreaTop" fmla="*/ 2074320 h 2303280"/>
              <a:gd name="textAreaBottom" fmla="*/ 2303640 h 2303280"/>
            </a:gdLst>
            <a:ahLst/>
            <a:rect l="textAreaLeft" t="textAreaTop" r="textAreaRight" b="textAreaBottom"/>
            <a:pathLst>
              <a:path w="21600" h="21600">
                <a:moveTo>
                  <a:pt x="17019" y="0"/>
                </a:moveTo>
                <a:lnTo>
                  <a:pt x="12438" y="3225"/>
                </a:lnTo>
                <a:lnTo>
                  <a:pt x="16129" y="3225"/>
                </a:lnTo>
                <a:lnTo>
                  <a:pt x="16129" y="19453"/>
                </a:lnTo>
                <a:lnTo>
                  <a:pt x="0" y="19453"/>
                </a:lnTo>
                <a:lnTo>
                  <a:pt x="0" y="21600"/>
                </a:lnTo>
                <a:lnTo>
                  <a:pt x="17909" y="21600"/>
                </a:lnTo>
                <a:lnTo>
                  <a:pt x="17909" y="3225"/>
                </a:lnTo>
                <a:lnTo>
                  <a:pt x="21600" y="3225"/>
                </a:lnTo>
                <a:lnTo>
                  <a:pt x="17019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AutoShape 8"/>
          <p:cNvSpPr/>
          <p:nvPr/>
        </p:nvSpPr>
        <p:spPr>
          <a:xfrm>
            <a:off x="1619280" y="4941720"/>
            <a:ext cx="1368360" cy="503280"/>
          </a:xfrm>
          <a:prstGeom prst="flowChartDecision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3" name="AutoShape 9"/>
          <p:cNvSpPr/>
          <p:nvPr/>
        </p:nvSpPr>
        <p:spPr>
          <a:xfrm rot="20754000">
            <a:off x="2526840" y="4438440"/>
            <a:ext cx="2168640" cy="988920"/>
          </a:xfrm>
          <a:custGeom>
            <a:avLst/>
            <a:gdLst>
              <a:gd name="textAreaLeft" fmla="*/ 4320 w 2168640"/>
              <a:gd name="textAreaRight" fmla="*/ 2164320 w 2168640"/>
              <a:gd name="textAreaTop" fmla="*/ 0 h 988920"/>
              <a:gd name="textAreaBottom" fmla="*/ 534240 h 988920"/>
            </a:gdLst>
            <a:ahLst/>
            <a:rect l="textAreaLeft" t="textAreaTop" r="textAreaRight" b="textAreaBottom"/>
            <a:pathLst>
              <a:path w="21600" h="21600">
                <a:moveTo>
                  <a:pt x="1327" y="9047"/>
                </a:moveTo>
                <a:cubicBezTo>
                  <a:pt x="2172" y="4480"/>
                  <a:pt x="6155" y="1167"/>
                  <a:pt x="10800" y="1167"/>
                </a:cubicBezTo>
                <a:cubicBezTo>
                  <a:pt x="15444" y="1167"/>
                  <a:pt x="19427" y="4480"/>
                  <a:pt x="20272" y="9047"/>
                </a:cubicBezTo>
                <a:lnTo>
                  <a:pt x="21419" y="8834"/>
                </a:lnTo>
                <a:cubicBezTo>
                  <a:pt x="20472" y="3714"/>
                  <a:pt x="16006" y="0"/>
                  <a:pt x="10799" y="0"/>
                </a:cubicBezTo>
                <a:cubicBezTo>
                  <a:pt x="5593" y="0"/>
                  <a:pt x="1127" y="3714"/>
                  <a:pt x="180" y="8834"/>
                </a:cubicBezTo>
                <a:lnTo>
                  <a:pt x="1327" y="9047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AutoShape 10"/>
          <p:cNvSpPr/>
          <p:nvPr/>
        </p:nvSpPr>
        <p:spPr>
          <a:xfrm rot="2635200">
            <a:off x="4571640" y="4365720"/>
            <a:ext cx="431640" cy="444240"/>
          </a:xfrm>
          <a:prstGeom prst="triangle">
            <a:avLst>
              <a:gd name="adj" fmla="val 0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AutoShape 11"/>
          <p:cNvSpPr/>
          <p:nvPr/>
        </p:nvSpPr>
        <p:spPr>
          <a:xfrm>
            <a:off x="2195640" y="907920"/>
            <a:ext cx="288720" cy="3816360"/>
          </a:xfrm>
          <a:prstGeom prst="downArrow">
            <a:avLst>
              <a:gd name="adj1" fmla="val 50000"/>
              <a:gd name="adj2" fmla="val 330455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5148360" y="4149720"/>
            <a:ext cx="1368360" cy="934920"/>
          </a:xfrm>
          <a:prstGeom prst="flowChartPreparation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Text Box 13"/>
          <p:cNvSpPr/>
          <p:nvPr/>
        </p:nvSpPr>
        <p:spPr>
          <a:xfrm>
            <a:off x="3278520" y="17733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Neuron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nociceptor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Text Box 14"/>
          <p:cNvSpPr/>
          <p:nvPr/>
        </p:nvSpPr>
        <p:spPr>
          <a:xfrm>
            <a:off x="1694520" y="26028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Modulación 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descendente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Text Box 15"/>
          <p:cNvSpPr/>
          <p:nvPr/>
        </p:nvSpPr>
        <p:spPr>
          <a:xfrm>
            <a:off x="1672920" y="560880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Interneuron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inhibitori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0" name="Text Box 16"/>
          <p:cNvSpPr/>
          <p:nvPr/>
        </p:nvSpPr>
        <p:spPr>
          <a:xfrm>
            <a:off x="5345640" y="5248440"/>
            <a:ext cx="13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Neuron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asta dorsal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Text Box 17"/>
          <p:cNvSpPr/>
          <p:nvPr/>
        </p:nvSpPr>
        <p:spPr>
          <a:xfrm>
            <a:off x="158760" y="3448080"/>
            <a:ext cx="1676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CBZ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Lidocaín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Capsaicin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Text Box 18"/>
          <p:cNvSpPr/>
          <p:nvPr/>
        </p:nvSpPr>
        <p:spPr>
          <a:xfrm>
            <a:off x="3218040" y="692280"/>
            <a:ext cx="7264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ADT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IRN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3133440" y="5157720"/>
            <a:ext cx="1895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Opiáceo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Agonista GAB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Text Box 20"/>
          <p:cNvSpPr/>
          <p:nvPr/>
        </p:nvSpPr>
        <p:spPr>
          <a:xfrm>
            <a:off x="6948360" y="4869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Text Box 21"/>
          <p:cNvSpPr/>
          <p:nvPr/>
        </p:nvSpPr>
        <p:spPr>
          <a:xfrm>
            <a:off x="6804000" y="3068640"/>
            <a:ext cx="1963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Gabapentin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Pregabalin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Topiramato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Dextrometorfan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5"/>
          <p:cNvSpPr/>
          <p:nvPr/>
        </p:nvSpPr>
        <p:spPr>
          <a:xfrm>
            <a:off x="621360" y="785880"/>
            <a:ext cx="810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¿Existe una frontera entre el dolor neuropático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9933"/>
                </a:solidFill>
                <a:latin typeface="Arial"/>
              </a:rPr>
              <a:t>y el dolor inflamatorio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2627280" y="2924280"/>
            <a:ext cx="333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ecanismo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ratamiento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2"/>
          <p:cNvSpPr/>
          <p:nvPr/>
        </p:nvSpPr>
        <p:spPr>
          <a:xfrm>
            <a:off x="324000" y="4653000"/>
            <a:ext cx="8569080" cy="503280"/>
          </a:xfrm>
          <a:prstGeom prst="leftRightArrow">
            <a:avLst>
              <a:gd name="adj1" fmla="val 50000"/>
              <a:gd name="adj2" fmla="val 338953"/>
            </a:avLst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281520" y="5589720"/>
            <a:ext cx="1799280" cy="7038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olo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Inflamatori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054200" y="5589720"/>
            <a:ext cx="1770120" cy="703800"/>
          </a:xfrm>
          <a:prstGeom prst="rect">
            <a:avLst/>
          </a:prstGeom>
          <a:noFill/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Dolor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w Cen MT"/>
                <a:ea typeface="Times New Roman"/>
              </a:rPr>
              <a:t>Neuropátic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95280" y="836640"/>
            <a:ext cx="85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Tw Cen MT"/>
                <a:ea typeface="Times New Roman"/>
              </a:rPr>
              <a:t>Artriti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33"/>
                </a:solidFill>
                <a:latin typeface="Tw Cen MT"/>
                <a:ea typeface="Times New Roman"/>
              </a:rPr>
              <a:t>           </a:t>
            </a:r>
            <a:r>
              <a:rPr b="1" lang="es-ES" sz="1800" spc="-1" strike="noStrike">
                <a:solidFill>
                  <a:srgbClr val="ff9933"/>
                </a:solidFill>
                <a:latin typeface="Tw Cen MT"/>
                <a:ea typeface="Times New Roman"/>
              </a:rPr>
              <a:t>Absceso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             </a:t>
            </a:r>
            <a:r>
              <a:rPr b="1" lang="es-ES" sz="1800" spc="-1" strike="noStrike">
                <a:solidFill>
                  <a:srgbClr val="ffcc00"/>
                </a:solidFill>
                <a:latin typeface="Tw Cen MT"/>
                <a:ea typeface="Times New Roman"/>
              </a:rPr>
              <a:t>Herida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00"/>
                </a:solidFill>
                <a:latin typeface="Tw Cen MT"/>
                <a:ea typeface="Times New Roman"/>
              </a:rPr>
              <a:t>             </a:t>
            </a:r>
            <a:r>
              <a:rPr b="1" lang="es-ES" sz="1800" spc="-1" strike="noStrike">
                <a:solidFill>
                  <a:srgbClr val="ffcc00"/>
                </a:solidFill>
                <a:latin typeface="Tw Cen MT"/>
                <a:ea typeface="Times New Roman"/>
              </a:rPr>
              <a:t>Cáncer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      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Neuropatías 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                         Inmunomediada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           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Neuralgia 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cc99"/>
                </a:solidFill>
                <a:latin typeface="Tw Cen MT"/>
                <a:ea typeface="Times New Roman"/>
              </a:rPr>
              <a:t>           herpétic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   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Neuralgia 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       post herpétic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      </a:t>
            </a:r>
            <a:r>
              <a:rPr b="1" lang="es-ES" sz="1800" spc="-1" strike="noStrike">
                <a:solidFill>
                  <a:srgbClr val="ffff99"/>
                </a:solidFill>
                <a:latin typeface="Tw Cen MT"/>
                <a:ea typeface="Times New Roman"/>
              </a:rPr>
              <a:t>Polineuropatías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Miembro fantasm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      </a:t>
            </a:r>
            <a:r>
              <a:rPr b="1" lang="es-ES" sz="1800" spc="-1" strike="noStrike">
                <a:solidFill>
                  <a:srgbClr val="000000"/>
                </a:solidFill>
                <a:latin typeface="Tw Cen MT"/>
                <a:ea typeface="Times New Roman"/>
              </a:rPr>
              <a:t>Dolor Central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2" name="5 CuadroTexto"/>
          <p:cNvSpPr/>
          <p:nvPr/>
        </p:nvSpPr>
        <p:spPr>
          <a:xfrm>
            <a:off x="3302640" y="5445000"/>
            <a:ext cx="226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Tw Cen MT"/>
              </a:rPr>
              <a:t>SDRC </a:t>
            </a:r>
            <a:r>
              <a:rPr b="1" lang="es-ES" sz="1800" spc="-1" strike="noStrike">
                <a:solidFill>
                  <a:srgbClr val="99cc00"/>
                </a:solidFill>
                <a:latin typeface="Adobe Garamond Pro Bold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Tw Cen MT"/>
              </a:rPr>
              <a:t>Fibromialgia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Tw Cen MT"/>
              </a:rPr>
              <a:t>Cistitis intersticial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Tw Cen MT"/>
              </a:rPr>
              <a:t>LBP</a:t>
            </a: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6 CuadroTexto"/>
          <p:cNvSpPr/>
          <p:nvPr/>
        </p:nvSpPr>
        <p:spPr>
          <a:xfrm>
            <a:off x="5435640" y="530064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1 CuadroTexto"/>
          <p:cNvSpPr/>
          <p:nvPr/>
        </p:nvSpPr>
        <p:spPr>
          <a:xfrm>
            <a:off x="3143880" y="476280"/>
            <a:ext cx="253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ON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0" name="2 CuadroTexto"/>
          <p:cNvSpPr/>
          <p:nvPr/>
        </p:nvSpPr>
        <p:spPr>
          <a:xfrm>
            <a:off x="364680" y="1320840"/>
            <a:ext cx="865116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Grupo heterogéneo de fármacos, cuya principal acció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farmacológica no es analgésica, usados como tratamient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complementario en los pacientes con dolor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úan sobre mecanismos fisiopatológic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que contribuyen y/o modulan la nocicepción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otencian o mejoran la acción de analgésico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ivian diversos síntomas asociado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 la experiencia dolorosa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Line 2"/>
          <p:cNvSpPr/>
          <p:nvPr/>
        </p:nvSpPr>
        <p:spPr>
          <a:xfrm>
            <a:off x="1150920" y="981000"/>
            <a:ext cx="6477120" cy="0"/>
          </a:xfrm>
          <a:prstGeom prst="line">
            <a:avLst/>
          </a:prstGeom>
          <a:ln w="63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108000" y="1484280"/>
          <a:ext cx="8839080" cy="4778280"/>
        </p:xfrm>
        <a:graphic>
          <a:graphicData uri="http://schemas.openxmlformats.org/drawingml/2006/table">
            <a:tbl>
              <a:tblPr/>
              <a:tblGrid>
                <a:gridCol w="963720"/>
                <a:gridCol w="1584000"/>
                <a:gridCol w="2071800"/>
                <a:gridCol w="42195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Dro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is Inicio (m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tenimi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Efectos advers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B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dación, mareos, diplopia, ataxia. </a:t>
                      </a: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Hiponatremia, leucopen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OX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0-18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dación, ataxia, hiponatrem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LT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-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Rush, mareos, nauseas, seda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GB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P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- 4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-3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-6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dación, mareos, ataxia, nauseas, edem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V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0-2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Nauseas, vómitos, temblor, sobrepeso, alopecia, hepato-tóxic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C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dac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BA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cc00"/>
                          </a:solidFill>
                          <a:latin typeface="Arial"/>
                          <a:ea typeface="Times New Roman"/>
                        </a:rPr>
                        <a:t>Sedación, mareo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Text Box 55"/>
          <p:cNvSpPr/>
          <p:nvPr/>
        </p:nvSpPr>
        <p:spPr>
          <a:xfrm>
            <a:off x="1580400" y="260280"/>
            <a:ext cx="60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rogas-dosis-efectos secundario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7" name=""/>
          <p:cNvGraphicFramePr/>
          <p:nvPr/>
        </p:nvGraphicFramePr>
        <p:xfrm>
          <a:off x="144360" y="1413000"/>
          <a:ext cx="8785440" cy="4767120"/>
        </p:xfrm>
        <a:graphic>
          <a:graphicData uri="http://schemas.openxmlformats.org/drawingml/2006/table">
            <a:tbl>
              <a:tblPr/>
              <a:tblGrid>
                <a:gridCol w="952560"/>
                <a:gridCol w="2197080"/>
                <a:gridCol w="2195640"/>
                <a:gridCol w="34401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Dro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 inicio (m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Mantenimi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Efectos advers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T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-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25-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ipación, sed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usión, arritmi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DL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60-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seas, mareos, somnol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V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150-2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seas, insomnio, impotencia, hipertens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T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200-3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lentecimiento psicomotor, lenguaje, somnolencia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aplic/ dí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L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aplic/ dí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ca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8" name="Line 169"/>
          <p:cNvSpPr/>
          <p:nvPr/>
        </p:nvSpPr>
        <p:spPr>
          <a:xfrm>
            <a:off x="1298520" y="1125360"/>
            <a:ext cx="6477120" cy="0"/>
          </a:xfrm>
          <a:prstGeom prst="line">
            <a:avLst/>
          </a:prstGeom>
          <a:ln w="63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Rectangle 170"/>
          <p:cNvSpPr/>
          <p:nvPr/>
        </p:nvSpPr>
        <p:spPr>
          <a:xfrm>
            <a:off x="1530360" y="463680"/>
            <a:ext cx="601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rogas-dosis-efectos secundario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1555200" y="260280"/>
            <a:ext cx="579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RECOMENDACIONES TERAPEUTIC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618120" y="836640"/>
            <a:ext cx="1689480" cy="45972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iciclic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3210480" y="836640"/>
            <a:ext cx="1349640" cy="45972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BT/PG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1842840" y="5877000"/>
            <a:ext cx="4806000" cy="459720"/>
          </a:xfrm>
          <a:prstGeom prst="rect">
            <a:avLst/>
          </a:prstGeom>
          <a:solidFill>
            <a:srgbClr val="66aa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Otras modalidades terapéutic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484360" y="292428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Line 12"/>
          <p:cNvSpPr/>
          <p:nvPr/>
        </p:nvSpPr>
        <p:spPr>
          <a:xfrm flipV="1">
            <a:off x="179280" y="2491920"/>
            <a:ext cx="7921800" cy="972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6" name="Line 13"/>
          <p:cNvSpPr/>
          <p:nvPr/>
        </p:nvSpPr>
        <p:spPr>
          <a:xfrm>
            <a:off x="395280" y="3860640"/>
            <a:ext cx="784872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7" name="Line 14"/>
          <p:cNvSpPr/>
          <p:nvPr/>
        </p:nvSpPr>
        <p:spPr>
          <a:xfrm>
            <a:off x="395280" y="5734080"/>
            <a:ext cx="77058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8" name="Text Box 18"/>
          <p:cNvSpPr/>
          <p:nvPr/>
        </p:nvSpPr>
        <p:spPr>
          <a:xfrm>
            <a:off x="618120" y="1484280"/>
            <a:ext cx="1873800" cy="825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lafaxin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uloxetin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Text Box 19"/>
          <p:cNvSpPr/>
          <p:nvPr/>
        </p:nvSpPr>
        <p:spPr>
          <a:xfrm>
            <a:off x="3137760" y="1484280"/>
            <a:ext cx="1602720" cy="825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idocaín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ópic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500040" y="2575080"/>
            <a:ext cx="1925640" cy="1191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proat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motrigin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piramat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1672200" y="4130640"/>
            <a:ext cx="16527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aclofen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1832040" y="4716360"/>
            <a:ext cx="2160360" cy="825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tagonista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MD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4766760" y="5081760"/>
            <a:ext cx="178848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psaicin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Text Box 24"/>
          <p:cNvSpPr/>
          <p:nvPr/>
        </p:nvSpPr>
        <p:spPr>
          <a:xfrm>
            <a:off x="4695480" y="4359240"/>
            <a:ext cx="2363040" cy="4597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nnabinoid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Rectangle 25"/>
          <p:cNvSpPr/>
          <p:nvPr/>
        </p:nvSpPr>
        <p:spPr>
          <a:xfrm>
            <a:off x="5897880" y="64008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Dworkin, R et al Pain 2007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6" name="AutoShape 27"/>
          <p:cNvSpPr/>
          <p:nvPr/>
        </p:nvSpPr>
        <p:spPr>
          <a:xfrm>
            <a:off x="4859280" y="1341360"/>
            <a:ext cx="2737080" cy="2016360"/>
          </a:xfrm>
          <a:custGeom>
            <a:avLst/>
            <a:gdLst>
              <a:gd name="textAreaLeft" fmla="*/ 153000 w 2737080"/>
              <a:gd name="textAreaRight" fmla="*/ 2584080 w 2737080"/>
              <a:gd name="textAreaTop" fmla="*/ 937440 h 2016360"/>
              <a:gd name="textAreaBottom" fmla="*/ 1078920 h 2016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9268" y="2449"/>
                </a:lnTo>
                <a:lnTo>
                  <a:pt x="10044" y="2449"/>
                </a:lnTo>
                <a:lnTo>
                  <a:pt x="10044" y="10044"/>
                </a:lnTo>
                <a:lnTo>
                  <a:pt x="2449" y="10044"/>
                </a:lnTo>
                <a:lnTo>
                  <a:pt x="2449" y="9268"/>
                </a:lnTo>
                <a:lnTo>
                  <a:pt x="0" y="10800"/>
                </a:lnTo>
                <a:lnTo>
                  <a:pt x="2449" y="12332"/>
                </a:lnTo>
                <a:lnTo>
                  <a:pt x="2449" y="11556"/>
                </a:lnTo>
                <a:lnTo>
                  <a:pt x="10044" y="11556"/>
                </a:lnTo>
                <a:lnTo>
                  <a:pt x="10044" y="19151"/>
                </a:lnTo>
                <a:lnTo>
                  <a:pt x="9268" y="19151"/>
                </a:lnTo>
                <a:lnTo>
                  <a:pt x="10800" y="21600"/>
                </a:lnTo>
                <a:lnTo>
                  <a:pt x="12332" y="19151"/>
                </a:lnTo>
                <a:lnTo>
                  <a:pt x="11556" y="19151"/>
                </a:lnTo>
                <a:lnTo>
                  <a:pt x="11556" y="11556"/>
                </a:lnTo>
                <a:lnTo>
                  <a:pt x="19151" y="11556"/>
                </a:lnTo>
                <a:lnTo>
                  <a:pt x="19151" y="12332"/>
                </a:lnTo>
                <a:lnTo>
                  <a:pt x="21600" y="10800"/>
                </a:lnTo>
                <a:lnTo>
                  <a:pt x="19151" y="9268"/>
                </a:lnTo>
                <a:lnTo>
                  <a:pt x="19151" y="10044"/>
                </a:lnTo>
                <a:lnTo>
                  <a:pt x="11556" y="10044"/>
                </a:lnTo>
                <a:lnTo>
                  <a:pt x="11556" y="2449"/>
                </a:lnTo>
                <a:lnTo>
                  <a:pt x="12332" y="2449"/>
                </a:lnTo>
                <a:lnTo>
                  <a:pt x="1080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5508720" y="2133720"/>
            <a:ext cx="1439640" cy="398880"/>
          </a:xfrm>
          <a:prstGeom prst="rect">
            <a:avLst/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mbinar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8471160" y="1052640"/>
            <a:ext cx="456480" cy="4786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Text Box 20"/>
          <p:cNvSpPr/>
          <p:nvPr/>
        </p:nvSpPr>
        <p:spPr>
          <a:xfrm>
            <a:off x="3917520" y="2759040"/>
            <a:ext cx="840600" cy="825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BZ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XC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1 CuadroTexto"/>
          <p:cNvSpPr/>
          <p:nvPr/>
        </p:nvSpPr>
        <p:spPr>
          <a:xfrm>
            <a:off x="1720080" y="549360"/>
            <a:ext cx="515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¿Como elegir  y usar el mejor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fármaco coadyuvante ?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2 CuadroTexto"/>
          <p:cNvSpPr/>
          <p:nvPr/>
        </p:nvSpPr>
        <p:spPr>
          <a:xfrm>
            <a:off x="1436040" y="1844640"/>
            <a:ext cx="674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ficacia sobre el dolo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ecanismos potencialmente involucrado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morbilidad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rfil de seguridad e interaccione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sto y accesibilidad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ección mas apropiad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itulación lent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sis y tiempo adecuado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edición del impact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1 CuadroTexto"/>
          <p:cNvSpPr/>
          <p:nvPr/>
        </p:nvSpPr>
        <p:spPr>
          <a:xfrm>
            <a:off x="1105560" y="1413000"/>
            <a:ext cx="7531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Antidepresivo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nticonvulsivant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Ansiolítico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Neuroléptico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Antiemético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nestésicos local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Cortico esteroid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tros ( capsaicina, baclofeno, relajante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musculares, bifosfonatos ,calcitonina)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1 CuadroTexto"/>
          <p:cNvSpPr/>
          <p:nvPr/>
        </p:nvSpPr>
        <p:spPr>
          <a:xfrm>
            <a:off x="3072600" y="636480"/>
            <a:ext cx="28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ntidepresivo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2 CuadroTexto"/>
          <p:cNvSpPr/>
          <p:nvPr/>
        </p:nvSpPr>
        <p:spPr>
          <a:xfrm>
            <a:off x="5724360" y="1889280"/>
            <a:ext cx="3024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mitriptilin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Nortriptilin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Venlafaxin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Duloxetin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3 CuadroTexto"/>
          <p:cNvSpPr/>
          <p:nvPr/>
        </p:nvSpPr>
        <p:spPr>
          <a:xfrm>
            <a:off x="667440" y="213372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Tricíclico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4 CuadroTexto"/>
          <p:cNvSpPr/>
          <p:nvPr/>
        </p:nvSpPr>
        <p:spPr>
          <a:xfrm>
            <a:off x="514080" y="3645000"/>
            <a:ext cx="390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Inhibidores d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recaptación  ST/N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6" name="5 Flecha derecha"/>
          <p:cNvSpPr/>
          <p:nvPr/>
        </p:nvSpPr>
        <p:spPr>
          <a:xfrm>
            <a:off x="4495680" y="2279520"/>
            <a:ext cx="908280" cy="292320"/>
          </a:xfrm>
          <a:prstGeom prst="rightArrow">
            <a:avLst>
              <a:gd name="adj1" fmla="val 50000"/>
              <a:gd name="adj2" fmla="val 50074"/>
            </a:avLst>
          </a:prstGeom>
          <a:solidFill>
            <a:srgbClr val="ffff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6 Flecha derecha"/>
          <p:cNvSpPr/>
          <p:nvPr/>
        </p:nvSpPr>
        <p:spPr>
          <a:xfrm>
            <a:off x="4495680" y="4183200"/>
            <a:ext cx="928800" cy="293400"/>
          </a:xfrm>
          <a:prstGeom prst="rightArrow">
            <a:avLst>
              <a:gd name="adj1" fmla="val 50000"/>
              <a:gd name="adj2" fmla="val 49844"/>
            </a:avLst>
          </a:prstGeom>
          <a:solidFill>
            <a:srgbClr val="ffffff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1 CuadroTexto"/>
          <p:cNvSpPr/>
          <p:nvPr/>
        </p:nvSpPr>
        <p:spPr>
          <a:xfrm>
            <a:off x="2466720" y="530280"/>
            <a:ext cx="446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AMITRIPTILIN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Acciones farmacológicas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2 CuadroTexto"/>
          <p:cNvSpPr/>
          <p:nvPr/>
        </p:nvSpPr>
        <p:spPr>
          <a:xfrm>
            <a:off x="987480" y="2708280"/>
            <a:ext cx="711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Inhibe recaptación de serotonina y N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Bloquea canales de sodio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cción anticolinérgic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ntihistamínic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lfa bloqueante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1 CuadroTexto"/>
          <p:cNvSpPr/>
          <p:nvPr/>
        </p:nvSpPr>
        <p:spPr>
          <a:xfrm>
            <a:off x="2205360" y="692280"/>
            <a:ext cx="48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Venlafaxina - Duloxetin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2 CuadroTexto"/>
          <p:cNvSpPr/>
          <p:nvPr/>
        </p:nvSpPr>
        <p:spPr>
          <a:xfrm>
            <a:off x="259200" y="2349360"/>
            <a:ext cx="7842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NHIDORES DUALES ST Y NA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ULOXETINA HA DEMOSTRADO EFICACIA EN EL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RATAMIENTO DE DOLOR NEUROPATICO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 ESTUDIOS CONTROLADOS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LTERNATIVA A LOS ATC EN EL CASO D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TRAINDICACION O CUANDO EXIST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PRESION ASOCIADA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250920" y="1557360"/>
          <a:ext cx="8642160" cy="3282840"/>
        </p:xfrm>
        <a:graphic>
          <a:graphicData uri="http://schemas.openxmlformats.org/drawingml/2006/table">
            <a:tbl>
              <a:tblPr/>
              <a:tblGrid>
                <a:gridCol w="938160"/>
                <a:gridCol w="2160720"/>
                <a:gridCol w="2158920"/>
                <a:gridCol w="33843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Drog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Dosi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de inicio (mg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Mantenimient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000"/>
                          </a:solidFill>
                          <a:latin typeface="Arial"/>
                          <a:ea typeface="Times New Roman"/>
                        </a:rPr>
                        <a:t>Efectos advers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AT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-1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25-7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tipación, Boca se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fusión, Sedación Arritmias, Hipotens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DLX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60-1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useas, mareos, somnole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V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2,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cc66"/>
                          </a:solidFill>
                          <a:latin typeface="Arial"/>
                          <a:ea typeface="Times New Roman"/>
                        </a:rPr>
                        <a:t>150-2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Nauseas, insomnio, impotencia, hipertens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1 CuadroTexto"/>
          <p:cNvSpPr/>
          <p:nvPr/>
        </p:nvSpPr>
        <p:spPr>
          <a:xfrm>
            <a:off x="2130840" y="554040"/>
            <a:ext cx="48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ANTICONVULSIVANTES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2 CuadroTexto"/>
          <p:cNvSpPr/>
          <p:nvPr/>
        </p:nvSpPr>
        <p:spPr>
          <a:xfrm>
            <a:off x="1280160" y="1844640"/>
            <a:ext cx="3519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Gabapentin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egabalin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nilhidantoin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Carbamazepin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Oxcarbacepin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motrigina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Topiramato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1 CuadroTexto"/>
          <p:cNvSpPr/>
          <p:nvPr/>
        </p:nvSpPr>
        <p:spPr>
          <a:xfrm>
            <a:off x="2307600" y="476280"/>
            <a:ext cx="388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"/>
                <a:ea typeface="Arial"/>
              </a:rPr>
              <a:t>Gabapentinoide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2 Rectángulo"/>
          <p:cNvSpPr/>
          <p:nvPr/>
        </p:nvSpPr>
        <p:spPr>
          <a:xfrm>
            <a:off x="2784600" y="1176480"/>
            <a:ext cx="29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Gabapentin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Pregabalina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3 CuadroTexto"/>
          <p:cNvSpPr/>
          <p:nvPr/>
        </p:nvSpPr>
        <p:spPr>
          <a:xfrm>
            <a:off x="558720" y="2254320"/>
            <a:ext cx="793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e unen a la subunidad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δ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de canal N de calcio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sminuyendo la liberación presináptica de NT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1908000" y="3208320"/>
            <a:ext cx="48816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3T13:05:18Z</dcterms:created>
  <dc:creator>Cristina</dc:creator>
  <dc:description/>
  <dc:language>en-US</dc:language>
  <cp:lastModifiedBy>Cristina</cp:lastModifiedBy>
  <dcterms:modified xsi:type="dcterms:W3CDTF">2013-06-29T03:02:53Z</dcterms:modified>
  <cp:revision>39</cp:revision>
  <dc:subject/>
  <dc:title>Presentación de PowerPoint</dc:title>
</cp:coreProperties>
</file>