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B657-5640-46B3-AB2C-F5FB6C52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5D4-F7B6-4693-9086-F1116350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8FA-09BD-4B45-A192-DCBF5E627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1A0-D7C3-43DB-A9EB-66876FAC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0147-52F2-4638-BD51-E8E191EA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4216-6840-4604-B14F-965FA9B2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ED55-BDA9-4BF1-9724-99EFA63D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797-BB67-4C4C-A160-9A239A20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1A4-E512-476D-AC25-E30E011C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2CCC-A57C-485F-8369-D47E6F7B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EC4B-3675-4C97-BFFF-831CD20F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176-0D36-40BF-B8AC-F9980F74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3202-8856-418E-8231-3C04560C22D3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228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LOGO COMPLETO"/>
          <p:cNvPicPr/>
          <p:nvPr/>
        </p:nvPicPr>
        <p:blipFill>
          <a:blip r:embed="rId1">
            <a:lum bright="-18000"/>
          </a:blip>
          <a:srcRect l="0" t="0" r="0" b="15906"/>
          <a:stretch/>
        </p:blipFill>
        <p:spPr>
          <a:xfrm>
            <a:off x="3206880" y="3929040"/>
            <a:ext cx="2793960" cy="642960"/>
          </a:xfrm>
          <a:prstGeom prst="rect">
            <a:avLst/>
          </a:prstGeom>
          <a:ln w="0">
            <a:noFill/>
          </a:ln>
          <a:effectLst>
            <a:outerShdw dist="170334" dir="17797153" blurRad="0" rotWithShape="0">
              <a:srgbClr val="ccccff"/>
            </a:outerShdw>
          </a:effectLst>
        </p:spPr>
      </p:pic>
      <p:sp>
        <p:nvSpPr>
          <p:cNvPr id="42" name="4 CuadroTexto"/>
          <p:cNvSpPr/>
          <p:nvPr/>
        </p:nvSpPr>
        <p:spPr>
          <a:xfrm>
            <a:off x="1285920" y="1857240"/>
            <a:ext cx="6786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Verdana"/>
                <a:ea typeface="Verdana"/>
              </a:rPr>
              <a:t>TRAUMATISMO ENCEFALOCRANEANO GR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1" lang="es-MX" sz="2400" spc="-1" strike="noStrike">
                <a:solidFill>
                  <a:srgbClr val="000000"/>
                </a:solidFill>
                <a:latin typeface="Verdana"/>
                <a:ea typeface="Verdana"/>
              </a:rPr>
              <a:t>Desde la Unidad de Cuidados Intensivos  a la Comunid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5 CuadroTexto"/>
          <p:cNvSpPr/>
          <p:nvPr/>
        </p:nvSpPr>
        <p:spPr>
          <a:xfrm>
            <a:off x="2071800" y="4854600"/>
            <a:ext cx="521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Sábado 10 de Noviembre d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alibri"/>
              </a:rPr>
              <a:t>Parque de Vacaciones de UTE. M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7 CuadroTexto"/>
          <p:cNvSpPr/>
          <p:nvPr/>
        </p:nvSpPr>
        <p:spPr>
          <a:xfrm>
            <a:off x="571680" y="857160"/>
            <a:ext cx="81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  <a:ea typeface="Verdana"/>
              </a:rPr>
              <a:t>JORNADA DE EDUCACIÓN MEDICA CONTI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f6228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LOGO COMPLETO"/>
          <p:cNvPicPr/>
          <p:nvPr/>
        </p:nvPicPr>
        <p:blipFill>
          <a:blip r:embed="rId1">
            <a:lum bright="-18000"/>
          </a:blip>
          <a:srcRect l="0" t="0" r="0" b="15906"/>
          <a:stretch/>
        </p:blipFill>
        <p:spPr>
          <a:xfrm>
            <a:off x="6572160" y="214200"/>
            <a:ext cx="2151000" cy="495360"/>
          </a:xfrm>
          <a:prstGeom prst="rect">
            <a:avLst/>
          </a:prstGeom>
          <a:ln w="0">
            <a:noFill/>
          </a:ln>
          <a:effectLst>
            <a:outerShdw dist="170334" dir="17797153" blurRad="0" rotWithShape="0">
              <a:srgbClr val="ccccff"/>
            </a:outerShdw>
          </a:effectLst>
        </p:spPr>
      </p:pic>
      <p:sp>
        <p:nvSpPr>
          <p:cNvPr id="46" name="4 CuadroTexto"/>
          <p:cNvSpPr/>
          <p:nvPr/>
        </p:nvSpPr>
        <p:spPr>
          <a:xfrm>
            <a:off x="500040" y="1357200"/>
            <a:ext cx="81439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El TEC en la Unidad de Cuidados Intens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Predicción Pronostica del Resultado Final en Rehabilitación.                                                                ¿Cómo evaluar? ¿Qué esperar?  ¿Cómo comunic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Rehabilitación del TEC Grave en el ni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Rehabilitación del TEC Grave en el adu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Diagnóstico y Rehabilitación Neurocogn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Farmacología en Rehabilitación Neurocogn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La Familia del paciente con TEC Gr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  <a:ea typeface="Verdana"/>
              </a:rPr>
              <a:t>Avances en Modelos de Asistencia en 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5 CuadroTexto"/>
          <p:cNvSpPr/>
          <p:nvPr/>
        </p:nvSpPr>
        <p:spPr>
          <a:xfrm>
            <a:off x="1785960" y="5929200"/>
            <a:ext cx="52149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Sábado 10 de Noviembre d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Parque de Vacaciones de UTE. MI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Calibri"/>
              </a:rPr>
              <a:t>secretaria@surmefi.org.u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7 CuadroTexto"/>
          <p:cNvSpPr/>
          <p:nvPr/>
        </p:nvSpPr>
        <p:spPr>
          <a:xfrm>
            <a:off x="571680" y="714240"/>
            <a:ext cx="81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  <a:ea typeface="Verdana"/>
              </a:rPr>
              <a:t>PROGRAMA PRELIMIN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6 CuadroTexto"/>
          <p:cNvSpPr/>
          <p:nvPr/>
        </p:nvSpPr>
        <p:spPr>
          <a:xfrm rot="20034000">
            <a:off x="213480" y="3128760"/>
            <a:ext cx="8501040" cy="520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  <a:ea typeface="Verdana"/>
              </a:rPr>
              <a:t>CONTAMOS CON TU 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ntr" presetID="1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2T00:18:01Z</dcterms:created>
  <dc:creator>Hugo</dc:creator>
  <dc:description/>
  <dc:language>en-US</dc:language>
  <cp:lastModifiedBy>Estudios Electricos</cp:lastModifiedBy>
  <dcterms:modified xsi:type="dcterms:W3CDTF">2012-06-11T15:10:27Z</dcterms:modified>
  <cp:revision>5</cp:revision>
  <dc:subject/>
  <dc:title>Diapositiva 1</dc:title>
</cp:coreProperties>
</file>